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0AC-9740-4092-9F5E-9A9E7F38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6B3-3BC2-4AFD-A3E5-54387306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3D8-5F75-4A4A-B0FA-01093BB4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842-6181-4DDB-9DA6-576A380B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97AC-4226-44BE-8546-30EDC643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9C8B-81F3-4D13-9BB2-98BCB3D5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4A42-C60D-4AE3-9D40-8060534B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6AF7-D755-42BB-8545-A4830F3D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0BA9-B287-41F5-BAD2-59F454C3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55EF-B77D-456F-A763-38DC2E53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5BC5-ABD9-46C2-ABF2-B7976D43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5FB-BC09-42C9-B7D3-95054DD3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D2E1-8865-4759-B962-432236DC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4E2D-3601-4C8F-B3D9-9D07C0F8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064A-B9FA-4BF0-8362-FEC9A992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D3E2-DE09-4008-8B0F-5705F183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2BA0-8599-4354-A9A9-A681E677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6158-C8BD-49A7-AE33-AE465F31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FFB-22BC-454F-A452-641184A5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F06-AC25-4247-8CA5-5EC16DAF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2E5-EE87-45AA-BF05-4420D470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E40-D7E0-48D4-8479-9579C739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CAF-DD63-4021-8075-1ED8C06B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B531-CBC0-4644-AF3C-617D031B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53F8-2A80-4BAB-B908-FC0D18425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FEB6-226F-42F0-8868-DC5ADF1E22E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podloga"/>
          <p:cNvPicPr/>
          <p:nvPr/>
        </p:nvPicPr>
        <p:blipFill>
          <a:blip r:embed="rId1"/>
          <a:stretch/>
        </p:blipFill>
        <p:spPr>
          <a:xfrm>
            <a:off x="571680" y="50004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66"/>
                </a:solidFill>
                <a:latin typeface="Verdana"/>
              </a:rPr>
              <a:t>Доц. др Катарина Парезановић Илић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	</a:t>
            </a: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Једносмернe импулсне струје (фекв</a:t>
            </a:r>
            <a:r>
              <a:rPr b="1" lang="sr-CS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е</a:t>
            </a: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нција до 1000 Hz)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Модулисане стру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Модулације представљају "пакете" импулса где се интензитет пове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ава постепено, а затим постепено смањује. Изме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у тих "пакета" импулса налази се пауза. На овај на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н добијају се модулисане струје по ја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ни где за време трајања модулационог импулса м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је стално контрахован, а за време паузе долази до деко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тракције и одмор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мпулси преко 30 </a:t>
            </a: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ms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 паузе 50-60</a:t>
            </a: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се не модулису јер такви импулси изазивају појединацне контракције. Број модулација - фреквенција модулације об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но је 6-30 у мину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1547640" y="3168720"/>
            <a:ext cx="61930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16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II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	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Једносмернe импулсне струје (фекв</a:t>
            </a:r>
            <a:r>
              <a:rPr b="1" lang="sr-CS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е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нција до 1000 Hz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92000" y="2354040"/>
            <a:ext cx="69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) Leduc-ova струј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) Bernard-ove (DDS) струј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) експон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ен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цијал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е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у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је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Kowarschik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) модулисане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ј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Leduc-ove стру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мпулсна галванизација је поступак у ком се користе импулси релативно мале амплитуде који су испод прага побу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вања моторичких неурона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 импулсној галванизацији нај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 се користе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DD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дијадинамицне струје) и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ове струј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ове струје имају импулс 2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у 5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У литератури се ср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 појмови “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Ultrareiz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" (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над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ји),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Traebertov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струје и сл. Аналгезија код стабилне галванизације се пост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 испод аноде, а код импулсне галванизације испод кат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Bernard-ove (DDS) струје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Дијадинам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ке струје се састоје из серије разл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ито модулисаних импулса по у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сталости, интензитету, облику и амплитуди. Фреквенција је од 50 до 100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. Ове модулације се комбинују са галванском струјом (база) ниског интензитета до 2 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Дијадинам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не струје се називају и Бернардове струје јер их је француски стоматолог Бернард увео у терапијску примену 1960. год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5813280" y="1600200"/>
            <a:ext cx="2862360" cy="4530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Експоненцијалне струј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кспоненцијална струја представља галванску струју импулсног тока. Трајање импулса се кре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 и до 2000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. Интензитет који се мо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 применити је и до 80 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А. Прве резултате о кор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шћ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њу експоненцијалних струја даје Бергони (1895) и описује то појмом "електрогимнастика". Но, детаљан опис и обја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њења деловања експоненцијалних струја даје Коwа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rschik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(1951) па се експоненцијалне струје називају Коwа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rschik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-ове струј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809880" cy="2649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6858000" y="14479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tu - период улазa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tp - период pаda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паузa = T - t1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81160"/>
            <a:ext cx="7845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Облици импулс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а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правоугао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б) троугла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д) експоненцијал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ц) синусоид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е) трапезоид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ф) комбинова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г) Треагернове стру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х) руска стимулациј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4971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ec85e"/>
                </a:solidFill>
                <a:latin typeface="Times New Roman"/>
              </a:rPr>
              <a:t>Однос угла и интензитета импул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9280" y="2636640"/>
            <a:ext cx="382752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М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узависност нагибног угла и интензитета (ефикасност импулса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457200" y="2492280"/>
            <a:ext cx="4035600" cy="22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2120" y="328680"/>
            <a:ext cx="8161200" cy="10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Акомодабилите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Здрав, нормалан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ако се дражи троугластим импулсима има могу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ност да се прилагоди на постепен пораст интензитета и не одговара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ном контракцијом на мали интензитет. Код пов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ња интензитета од 40-60 мА и здрави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 имају одговор на дражење троугластим импулсима. Млитаво одузет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нема способност акомодације, в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реагује и на мале импулсе када се дражи троулгастим импулсима. Услед тога одузет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код лезије периферног моторног неурона реагује и на мале интензитете 10-20 мА. На овај нацин ми применом експоненцијалних струја м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мо селективно дражити одузете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Акомодабилите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роменом трајања импулса експоненцијална струја се може прилагодити било ком степену периферне одузетости. Уколико је најтеже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е примењује се експоненцијална струја са дужим трајањем импулса - 500-1000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пауза је до 20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код несто лак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х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250-5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а до 10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и код лаких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импулс траје 50-125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а 250-5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Нормално над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љив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реагује на 0,1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рајања импулса, а пауза је до 2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У току л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код побољ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ња, опоравка периферног моторног неурона ск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ју се импулси и пауза, а побољшава се акомодибилите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7:57:46Z</dcterms:created>
  <dc:creator>WIN98SE</dc:creator>
  <dc:description/>
  <dc:language>en-US</dc:language>
  <cp:lastModifiedBy>katarinaparezanovicilic@gmail.com</cp:lastModifiedBy>
  <dcterms:modified xsi:type="dcterms:W3CDTF">2020-09-26T16:58:50Z</dcterms:modified>
  <cp:revision>19</cp:revision>
  <dc:subject/>
  <dc:title>II Jednosmerne impulsne struje (fekvencija do 1000 Hz)</dc:title>
</cp:coreProperties>
</file>