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3AAF-01B0-4661-9679-70D170DC4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B57B-6210-4F8D-B252-27D47430B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C717-4922-4419-AFE5-B7CD7565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DF0-A9EF-4DC7-BF4C-18287A91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72D-5BC5-4287-8B0A-51318D11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41F2-0B4B-43E7-87C7-67592B74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F10-BB1D-4AB5-BD31-C5611D8D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4811-4E10-4AFD-B017-9179E0A6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91E-3555-4760-8A45-82728B47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CD97-397A-4F45-9E59-25DF4288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CCD-3344-4AA4-9D36-C10D1F9E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D54F-BCAF-48AF-8453-94C65E20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D4F-B2D6-47A3-A1C7-ADF0AFB1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C15-0F8C-464C-A528-BCE2D700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D89D-FD14-4910-BC9E-78D53A3CB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ИДРО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5516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ц. др Катарина Парезановић И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топле вод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д деловањем термо д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 воде долази до ширења крвних судова у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, а у унутрашњим органима настаје вазоконстрикција сем у срцу и бубрезима. Потребно је знати да се и крвни судови у централном нервном систему понашају као крвни судови у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, а што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довести до цереброваскуларних ош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а, посебно код особа са повишеном тензијом и органски измењеним крвним суд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има због артерио и атерос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лероз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опле процедуре убрзавају с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ни рад, дисање постаје продубљено, а код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купке постаје убрзано и површно. Дуготрајне процедуре топлом водом смањују тонус миш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а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алфа спас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ст), смањују тонус и успорење функција ЦНС-а, изазивају замор, тромост, инертност и пад мотивисаности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топле вод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Индиферентна темп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опла вода делује на смањење надр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љивости периферних нерава па се м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 користити за смањење болов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хладне в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Деловање хладне воде огледа се у двофазној реакцији.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најпре побледи услед васконстрикције, а затим следе црвенило и вазодилатација. Код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г деловања хладне воде долази до парализе вазомотора, проширења крвних судова, успорења циркулације, цијанозе и хлад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Деловање хладне воде огледа се и у успорењу с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ног рада, бољем пуњењу крвних судова (пулса),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њу тензије, дубљем дисању,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њу метаболизма. Та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се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ва број белих и црвених крвних зрнаца.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ва се тонус скелетне мускулатуре, али ако хлад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делује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време долази до спазмолизе и смањења тонуса (деловање на нивоу гама спастицност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изиолошко деловање хлад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д појединих особа код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г деловања хладне воде могу се појавити грчеви у ногама који су најчешће у задњој лози подколенице. Краткотрајне хладне апликације делују над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јно у смислу тонизације организма уз повишење радне способности и побољшања менталне активнос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изиолошко деловање хлад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Подела хидротерапијских процедура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057040"/>
            <a:ext cx="8424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Хидротермалне процедур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I Хидрокинетицке процед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компресе – облог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туше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полива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бисерна к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трља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подводна мас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купк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хидрокинезитерап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пакова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Хидрохемијске процедур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V Хидроелектрицне процед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сумпорна купк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галванска к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борова купк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угљоводоницне купке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слана ку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 Хидрот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малне процедур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Компресе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- облоге су најједноставније хидротермалне процедуре. Могу се користити разлицити облози (хладни и топли). Најпознатији је Priesn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z-ov облог, који представља хладан облог који се покрива са неколико слојева суве тканине да се спреци контакт са ваздухом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Поливање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мозе бити локално и опште. Користи се вода од 20-25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у трајању 3-5 мин. Затим се коза изфротира док не поцрвени. Након тога следује одмор и тај део тела се прекрије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Трљање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се изводи влазним пешкиром или рукавицом. После влазног примењује се суво трљање. Процедура траје 5 мин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термалне процед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упке могу бити опште и локалне. Као опште правило узима се 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јако надразајне купке не трају дузе од 5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купке умереног деловања трају 10-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купке индиферентне темепратуре могу трајати и ду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од 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осле општих купки потребан је одмор од најмање 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термалне процед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) Наизме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е купке представљају процес наизме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е апликације хладне и топле воде. У једном суду је вода са температуром од 10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а у другом суду је температура воде 40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Болесник ставља третирани сегмент тела (нога или рука) у вруцу воду до 5 минута, а затим дрзи у хладној води 1 минут. Ова измена топло-хладно се обавља у једном третману око 5-7 пу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б) Хауфеове купке - поцетна температура воде износи 35-36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Температура воде постепено се повецава, током 10-12 минута, на 42-43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финиција  Хид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дротерапија подразумева спољну примену топле и хладне воде у циљу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термалне процед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Паковања, као метод хидротерапијских процедура, подразумева увијање тела или одредјеног сегмента у мокре царшаве који се претходно потопе у хладну воду и исцеде. У третираном сегменту долази до вазоконстрикције, коју убрзо смењује вазодилатација.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Ова процедура делује седативно усле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деплеторног деловања на ЦНС због периферне васодилат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деловања загрејаног ваздуха измедју мокрог царшава и тела (водена загрејана пара) на завршетке сензитивних нер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мировања и одсуства механицких надразаја на коз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Паковања се користе и код упорних несаница које не реагују на медикаментозну терапију. Сува паковања - увијање пацијента у сув царшав и затим у цебе, углавном се користи после других општих хидротермалних процед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кинет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процедур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Тушев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представљају усмерени млаз воде на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ени сегмент тела под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еним притиском,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еном температуром и дефинисаним млазом. При примени тушева користе се две врсте над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аја: терм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 и меха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. Меха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 над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ај је код примене туша основни циљ, а терм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 је секундаран. Код примене купки тај однос је био обр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ема температури тушеви се деле на хладне, до 20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прохладне до 30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и топле изнад те температурне вис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ема притиску воде ,тушеви се деле на тушеве са ниским притиском, (до 1 атм)и тушеве са високим притиском (преко 1 ат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ема облику млаза постоје струјни, циркуларни и кишни ту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Шкотски туш, Шаркот туш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Бисерна када (вртло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на купка) представља хидрокинет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ку процедуру са индиферентном температуром вод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Подводна масаза представља млаз воде индиферентне темепратуре под одредјеним притиском, који се у кади или базену напуњеним водом усмерава према оболелом сегменту тела. Преко одр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них наставака на крају млазнице мо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се мењати притисак млаза воде. Об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но се користи притисак од 101,3-202,6 k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. По правилу се подводна мас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 изводи од периферије ка центру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Процедура траје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10-15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минута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,.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Серија има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10-15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пликација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кинет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процедур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Хидрокинезитерапиј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представља програм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би у води. Дејство хидрокинезитерапије се заснива на след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м принципи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Архимедов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температур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психолошки ефек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кинет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процедур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химедов зак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582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Према Арцхимедовом принципу тело губи онолико од своје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е колико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 њиме истиснут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ност. Специф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н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воде је 1,0 а нашег тела 1,036, што зн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 да је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тела в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а за само 36/1000 од истог волумена воде. Ако потопимо цело тело са главом испод воде, онда укупн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тела од 70 kgr износи 2,52 kgr (70 x 0,036 = 2,52 kgr, Kowarschik, 1957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Специфицн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слане воде је в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а од слатке воде.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Морска вода има салинитет око 3%. У појединим бањским л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лиштима салинитет је још в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, па математ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ки говоримо о негативној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и тела која износи 3 кг и више. Овакви услови омог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авају лакши покрет и пацијент на псих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ком плану до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вљава задовојство и сигур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хемијске процедур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801800"/>
            <a:ext cx="80755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Хидрохемијске процедуре комбинују фармаколошко деловање одр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них материја које минерална вода сад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 или се додају хемијске материје (сумпор, етер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 уља, угљен диоксид и др.), са физ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им и терм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им деловањем воде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ве материје делују надр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јно на ко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 поред тога постоји и ефекат услед транскутане ресорпције хемијски активних материј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гљенокиселе купке (куп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CO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делују преко рецептора за топлоту и примењују се са темературом од 35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на п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тку 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ња, која се с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в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к и до 26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на крају терапијске серије. На п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тку процедура траје 5, а на крају 15 минута. За време примене ових купки саветује се мировање у кади или базену. Број апликација у једној серији об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о износи 15. 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 за време купке јако поцрвени због деловања мехур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2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 терморецепторе. Након ових купки, које због свог деловања сназно опте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ју кардиоваскуларни систем, саветује се одмор од 2 с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хемијске процедур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електричне куп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алванска к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етворoћeличнe купk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627280" y="907920"/>
            <a:ext cx="3830760" cy="48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17672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сторијат хид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Хидротерапија се користи према писаним изворима од којих је најстарији из Индије, као један од првих физикалних агенаса. Емпиријски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век је п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о кориш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е воде у циљу хигијене и расхл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вања. У старој Грчкој вода је кориш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на у циљу 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а, тако Хипократ (460-377 год. пне) пише да се применом хладне воде могу 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ти отоци, улцерације, гихтозне афекције и сл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сторијат хид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Dutch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YUDutchB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 старом Риму поред логора војске и болница обевезан објекат су била и купатила. Ова купатила су има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грејану просторију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тепида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сторију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свлачење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подите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топло купатило са кадицама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лда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упатило са базеном и хладном водом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фигида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Гален је користио хидортерапијске процедуре за 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ње Римских гладијато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 средњем век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ако има отпора према свим на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им људ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јављају се емпир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ри који препор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ју 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ње водом у разним бањ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изи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особин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рм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 деловање воде и деловање хидростатског прит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да имa 25 пут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у топ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 проводљивост од ваздух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диферентна температура воде износи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Хидротермална скал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 по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Cordes-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6"/>
          <p:cNvSpPr/>
          <p:nvPr/>
        </p:nvSpPr>
        <p:spPr>
          <a:xfrm>
            <a:off x="0" y="60958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ance YU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9640" y="1600200"/>
          <a:ext cx="8209080" cy="4784760"/>
        </p:xfrm>
        <a:graphic>
          <a:graphicData uri="http://schemas.openxmlformats.org/drawingml/2006/table">
            <a:tbl>
              <a:tblPr/>
              <a:tblGrid>
                <a:gridCol w="503280"/>
                <a:gridCol w="1441440"/>
                <a:gridCol w="1800360"/>
                <a:gridCol w="925560"/>
                <a:gridCol w="1306440"/>
                <a:gridCol w="1119240"/>
                <a:gridCol w="111276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адна диферентна з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 осећа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ферентна </a:t>
                      </a:r>
                      <a:br>
                        <a:rPr sz="1600"/>
                      </a:b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пла диферентна з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 осећа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-30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ж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-38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п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25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-40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ло топ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18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ло 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-36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јатно мл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42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ућ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12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ијатно 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-44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6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дношљиво 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-46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ијатно в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0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-48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дношљиво в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1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озирање по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ordes-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ерапија у индиферентној температури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трајати сатима.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д I до IV степена термоскале терапија се дозира у минутима, а у V и VI степену термоскале у секундам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идротерапијска реакција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Baruc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задовољавај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хидротерапијска 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дефектна реакција - пацијент ос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језу (треба смањити време или површину аплика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лоша реакција - језа, цвокотање и цијаноза (скратити време  и површину апликације уз фротирање, а понекад и прекинути хидротерапију хладном вод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топле в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0584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опла вода изазива црвенило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које је узроковано вазодилатацијом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р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процедуре преко 40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зазивају вазоконстрикцију, језу у кратком временском интервалу и затим се јавља вазодила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8:14:35Z</dcterms:created>
  <dc:creator>PAKOM</dc:creator>
  <dc:description/>
  <dc:language>en-US</dc:language>
  <cp:lastModifiedBy>Kaca</cp:lastModifiedBy>
  <dcterms:modified xsi:type="dcterms:W3CDTF">2022-08-20T11:33:24Z</dcterms:modified>
  <cp:revision>22</cp:revision>
  <dc:subject/>
  <dc:title>HIDROTERAPIJA</dc:title>
</cp:coreProperties>
</file>